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02768-694A-4465-A86A-2EDEE8634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5F39C-5E82-478B-BDB1-62AFC188F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E4508-00B4-4DEF-BC9B-8B4663079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7CE7F-C293-45CB-BB40-2E67CA366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A9AB9-9258-486C-A501-C3FBCCCB4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03073-9309-43D8-B2D7-7B76A0314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74CA9-86F3-46B2-BB07-0C0E65138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F0609-B4A0-4DCA-985A-D4C165402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0E4D8-1854-4774-86AD-44512CC51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3E080-DF6D-4908-B1EA-E4F679C45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313B1-FD96-4636-9120-D6BEB4D23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48131-A4B0-43F3-8D66-EE116AFAC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D8201-D1F8-4BFE-BFF2-442F171E8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1140D-CC6D-4859-9667-3E519CB7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6B6B8-CF75-4F2D-9A63-5F105E824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9A0BF-1791-4B54-830F-3E27B4EAB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768ED-5B51-4995-A3DE-276E26A2A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245B8-C4FC-4B12-92C7-053ABD440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1BD02-BB1F-4D6E-B9BD-30563447A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F2FCA-6D45-4204-B51D-0F23315D2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0CF67-8B0D-4E7E-9858-6746F5207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3A437-E06C-41F7-8585-EC750E491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8401E-08EE-4FA2-B3E8-63BCCE52C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E35DA-42ED-4307-9F88-246D63D7B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3C3F2-2B35-410C-93E9-D02C03233BF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19D35-5209-43A1-87BB-A2BB372D62C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609480" y="3716280"/>
          <a:ext cx="8099280" cy="2484000"/>
        </p:xfrm>
        <a:graphic>
          <a:graphicData uri="http://schemas.openxmlformats.org/drawingml/2006/table">
            <a:tbl>
              <a:tblPr/>
              <a:tblGrid>
                <a:gridCol w="3297240"/>
                <a:gridCol w="1361880"/>
                <a:gridCol w="1362240"/>
                <a:gridCol w="1361880"/>
                <a:gridCol w="716040"/>
              </a:tblGrid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요           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B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  <a:ea typeface="MS PGothic"/>
                        </a:rPr>
                        <a:t>N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비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클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큘라이트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일반토양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1" name=""/>
          <p:cNvGrpSpPr/>
          <p:nvPr/>
        </p:nvGrpSpPr>
        <p:grpSpPr>
          <a:xfrm>
            <a:off x="429120" y="1197000"/>
            <a:ext cx="8606880" cy="1601640"/>
            <a:chOff x="429120" y="1197000"/>
            <a:chExt cx="8606880" cy="1601640"/>
          </a:xfrm>
        </p:grpSpPr>
        <p:sp>
          <p:nvSpPr>
            <p:cNvPr id="562" name=""/>
            <p:cNvSpPr/>
            <p:nvPr/>
          </p:nvSpPr>
          <p:spPr>
            <a:xfrm>
              <a:off x="429120" y="1197000"/>
              <a:ext cx="287100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8f200"/>
                  </a:solidFill>
                  <a:latin typeface="굴림"/>
                </a:rPr>
                <a:t>♦ </a:t>
              </a:r>
              <a:r>
                <a:rPr b="1" lang="ko-KR" sz="2400" spc="-1" strike="noStrike">
                  <a:solidFill>
                    <a:srgbClr val="f8f200"/>
                  </a:solidFill>
                  <a:latin typeface="굴림"/>
                </a:rPr>
                <a:t>황칠나무 선발육종</a:t>
              </a: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5760" y="2305080"/>
              <a:ext cx="8310240" cy="493560"/>
              <a:chOff x="725760" y="2305080"/>
              <a:chExt cx="8310240" cy="493560"/>
            </a:xfrm>
          </p:grpSpPr>
          <p:sp>
            <p:nvSpPr>
              <p:cNvPr id="564" name=""/>
              <p:cNvSpPr/>
              <p:nvPr/>
            </p:nvSpPr>
            <p:spPr>
              <a:xfrm>
                <a:off x="741600" y="2305080"/>
                <a:ext cx="829440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5760" y="2311560"/>
                <a:ext cx="8294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66" name=""/>
          <p:cNvSpPr/>
          <p:nvPr/>
        </p:nvSpPr>
        <p:spPr>
          <a:xfrm>
            <a:off x="611280" y="1782720"/>
            <a:ext cx="8064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생산이 많은 우량개체로부터 삽수나 접수를 채취 그 차대를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우량개체의 증식에는 삽목에 의한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가지 양분이 혼합된 배양토를 처리해서 나무를 증식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68" name=""/>
          <p:cNvSpPr/>
          <p:nvPr/>
        </p:nvSpPr>
        <p:spPr>
          <a:xfrm>
            <a:off x="4548240" y="1219320"/>
            <a:ext cx="3724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♦ </a:t>
            </a: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미생물에 의한 황칠분비 촉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538440" cy="482436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70" name=""/>
          <p:cNvSpPr/>
          <p:nvPr/>
        </p:nvSpPr>
        <p:spPr>
          <a:xfrm>
            <a:off x="4356000" y="1773360"/>
            <a:ext cx="4572000" cy="30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나무수 피에 상처를 내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회색고약병균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Septobasodoum sp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을 접종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적 처리시기는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월 중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처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일 후부터 균주의 접종이 확인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의 분비가 촉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2" name=""/>
          <p:cNvSpPr/>
          <p:nvPr/>
        </p:nvSpPr>
        <p:spPr>
          <a:xfrm>
            <a:off x="395280" y="1125360"/>
            <a:ext cx="8353440" cy="32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버미큘라이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펄라이트 및 피트모스를 혼합한 배양토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IBA10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㎎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/ℓ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처리하는 것이 가장 효과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때의 발근율은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82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로 비교군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4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와 비교하여 약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의 발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촉진효과접종구당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면적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평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도 분비되었으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장 많이 분비된 경우는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7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까지 분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이 분비되는 동안 임목에 큰 피해를 입히지 않았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4" name=""/>
          <p:cNvSpPr/>
          <p:nvPr/>
        </p:nvSpPr>
        <p:spPr>
          <a:xfrm>
            <a:off x="395280" y="1125360"/>
            <a:ext cx="83534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은 그 채취량이 극소량이기 때문에 소량의 황칠을 사용하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부가가치를 지닌 제품을 창출할 수 있는 방향으로 이용하는 것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무엇보다 중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금빛 찬란한 천연도료로써 목공예품을 화려하게 보이게 하기 때문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품격의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향기가 좋기 때문에 안방가구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죽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목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병풍 등에 칠하여 한국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유의 칠기 제품으로 개발하는 것이 바람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개체에 따라서 형태적 특성 및 칠액 생산량에 다양한 변이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나무 천연집단의 형태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전적 변이를 조사하고 그 요인들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토대로 칠액 생산량이 많은 우량개체를 선발하여 개발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에 대하여는 전통 장인들도 지식과 정보가 전혀 없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공예 장인도 현존하지 않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근 국민생활 수준의 향상과 더불어 고급공예품의 선호도가 높아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부가가치가 높은 상품으로서의 개발이 요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우리나라 특산식물인 황칠나무의 수지액의 특성과 천연도료적 가치의 우수성을 재인식시키며 이를 산업화하는 것이 중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에 함유된 정유성분은 천연 항료나 약용자원으로써의 가치가 있는 것으로 규명되어 앞으로 그 수요와 활용도는 증가할 것으로 예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개요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92120" y="1514160"/>
            <a:ext cx="8304120" cy="4158360"/>
            <a:chOff x="492120" y="1514160"/>
            <a:chExt cx="8304120" cy="4158360"/>
          </a:xfrm>
        </p:grpSpPr>
        <p:sp>
          <p:nvSpPr>
            <p:cNvPr id="519" name=""/>
            <p:cNvSpPr/>
            <p:nvPr/>
          </p:nvSpPr>
          <p:spPr>
            <a:xfrm>
              <a:off x="515880" y="3278160"/>
              <a:ext cx="8280360" cy="6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2120" y="1514160"/>
              <a:ext cx="8280360" cy="41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두릅나무과에 난대 상록활엽수로 키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7∼15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 자라는 교목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줄기는 곧고 흑갈색이며 가지는 굵고 녹색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잎은 호생하고 엽병이 길며 달걀모양 또는 타원형에 혁질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분포지는 전남 완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보길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대흑산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어청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제주도 등지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자생지의 입지조건은 월평균 최저기온이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2℃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이상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지형은 화산암으로 산록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~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복에 분포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buSzPct val="12343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표고는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50~700m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에 걸쳐 생육</a:t>
              </a:r>
              <a:r>
                <a:rPr b="1" lang="ko-KR" sz="2200" spc="-1" strike="noStrike">
                  <a:solidFill>
                    <a:srgbClr val="ffffff"/>
                  </a:solidFill>
                  <a:latin typeface="굴림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31640" y="1592280"/>
            <a:ext cx="3600720" cy="4989240"/>
            <a:chOff x="431640" y="1592280"/>
            <a:chExt cx="3600720" cy="4989240"/>
          </a:xfrm>
        </p:grpSpPr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431640" y="1592280"/>
              <a:ext cx="3600720" cy="493236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grpSp>
          <p:nvGrpSpPr>
            <p:cNvPr id="524" name=""/>
            <p:cNvGrpSpPr/>
            <p:nvPr/>
          </p:nvGrpSpPr>
          <p:grpSpPr>
            <a:xfrm>
              <a:off x="1175400" y="5899320"/>
              <a:ext cx="2251440" cy="682200"/>
              <a:chOff x="1175400" y="5899320"/>
              <a:chExt cx="2251440" cy="682200"/>
            </a:xfrm>
          </p:grpSpPr>
          <p:sp>
            <p:nvSpPr>
              <p:cNvPr id="525" name=""/>
              <p:cNvSpPr/>
              <p:nvPr/>
            </p:nvSpPr>
            <p:spPr>
              <a:xfrm>
                <a:off x="1194120" y="591804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175400" y="589932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dfdef6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427640" y="1700280"/>
            <a:ext cx="43923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해부학적 특성 환공재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도관사이의 벽공이 교호상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수평수지구를 가진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목질부와 수피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화학적 조성은 일반 상록 활엽수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와 유사하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dfdef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129200" y="2012400"/>
            <a:ext cx="5037120" cy="3821040"/>
            <a:chOff x="4129200" y="2012400"/>
            <a:chExt cx="5037120" cy="3821040"/>
          </a:xfrm>
        </p:grpSpPr>
        <p:sp>
          <p:nvSpPr>
            <p:cNvPr id="530" name=""/>
            <p:cNvSpPr/>
            <p:nvPr/>
          </p:nvSpPr>
          <p:spPr>
            <a:xfrm>
              <a:off x="4151160" y="2012400"/>
              <a:ext cx="5015160" cy="38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형화서로 화경은 길이가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3∼5cm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소화경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∼10m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양성화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6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연한 황록색으로 개화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받침은 종형 또는 도란형으로 끝이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로 갈라짐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잎과 수술이 각각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과실은 타원형으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0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검게 익음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29200" y="3543840"/>
              <a:ext cx="5014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2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31640" y="1592280"/>
            <a:ext cx="3600720" cy="5069160"/>
            <a:chOff x="431640" y="1592280"/>
            <a:chExt cx="3600720" cy="5069160"/>
          </a:xfrm>
        </p:grpSpPr>
        <p:grpSp>
          <p:nvGrpSpPr>
            <p:cNvPr id="533" name=""/>
            <p:cNvGrpSpPr/>
            <p:nvPr/>
          </p:nvGrpSpPr>
          <p:grpSpPr>
            <a:xfrm>
              <a:off x="431640" y="1592280"/>
              <a:ext cx="3600720" cy="2326320"/>
              <a:chOff x="431640" y="1592280"/>
              <a:chExt cx="3600720" cy="2326320"/>
            </a:xfrm>
          </p:grpSpPr>
          <p:pic>
            <p:nvPicPr>
              <p:cNvPr id="53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1640" y="1592280"/>
                <a:ext cx="3600720" cy="229572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35" name=""/>
              <p:cNvGrpSpPr/>
              <p:nvPr/>
            </p:nvGrpSpPr>
            <p:grpSpPr>
              <a:xfrm>
                <a:off x="1635120" y="3538440"/>
                <a:ext cx="1424160" cy="380160"/>
                <a:chOff x="1635120" y="3538440"/>
                <a:chExt cx="1424160" cy="38016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1655640" y="3556800"/>
                  <a:ext cx="14036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635120" y="3538440"/>
                  <a:ext cx="140328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538" name=""/>
            <p:cNvGrpSpPr/>
            <p:nvPr/>
          </p:nvGrpSpPr>
          <p:grpSpPr>
            <a:xfrm>
              <a:off x="431640" y="3897360"/>
              <a:ext cx="3600720" cy="2764080"/>
              <a:chOff x="431640" y="3897360"/>
              <a:chExt cx="3600720" cy="2764080"/>
            </a:xfrm>
          </p:grpSpPr>
          <p:pic>
            <p:nvPicPr>
              <p:cNvPr id="53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31640" y="3897360"/>
                <a:ext cx="3600720" cy="2635560"/>
              </a:xfrm>
              <a:prstGeom prst="rect">
                <a:avLst/>
              </a:prstGeom>
              <a:ln w="28440">
                <a:solidFill>
                  <a:srgbClr val="dfdef6"/>
                </a:solidFill>
                <a:miter/>
              </a:ln>
            </p:spPr>
          </p:pic>
          <p:grpSp>
            <p:nvGrpSpPr>
              <p:cNvPr id="540" name=""/>
              <p:cNvGrpSpPr/>
              <p:nvPr/>
            </p:nvGrpSpPr>
            <p:grpSpPr>
              <a:xfrm>
                <a:off x="1213920" y="5977080"/>
                <a:ext cx="2084040" cy="684360"/>
                <a:chOff x="1213920" y="5977080"/>
                <a:chExt cx="2084040" cy="6843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1233000" y="599796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1213920" y="597708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0" t="0" r="0" b="10588"/>
          <a:stretch/>
        </p:blipFill>
        <p:spPr>
          <a:xfrm>
            <a:off x="179280" y="1125360"/>
            <a:ext cx="3888000" cy="532800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45" name=""/>
          <p:cNvSpPr/>
          <p:nvPr/>
        </p:nvSpPr>
        <p:spPr>
          <a:xfrm>
            <a:off x="4321080" y="1268280"/>
            <a:ext cx="45720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은 상록 교목인 황칠나무에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채취되는 우리나라 고유의 전통수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공예는 삼국사기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계림지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사절요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도경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임원십육지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 문헌 자료에 기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갑옻과 투구에 황금색을 나타내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나무 에서 나오는 천연 투명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*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특징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황금빛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안식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31640" y="1305000"/>
            <a:ext cx="3600720" cy="4933800"/>
            <a:chOff x="431640" y="1305000"/>
            <a:chExt cx="3600720" cy="4933800"/>
          </a:xfrm>
        </p:grpSpPr>
        <p:grpSp>
          <p:nvGrpSpPr>
            <p:cNvPr id="548" name=""/>
            <p:cNvGrpSpPr/>
            <p:nvPr/>
          </p:nvGrpSpPr>
          <p:grpSpPr>
            <a:xfrm>
              <a:off x="431640" y="3716280"/>
              <a:ext cx="3600720" cy="2522520"/>
              <a:chOff x="431640" y="3716280"/>
              <a:chExt cx="3600720" cy="2522520"/>
            </a:xfrm>
          </p:grpSpPr>
          <p:pic>
            <p:nvPicPr>
              <p:cNvPr id="5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1640" y="3716280"/>
                <a:ext cx="3600720" cy="245988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50" name=""/>
              <p:cNvGrpSpPr/>
              <p:nvPr/>
            </p:nvGrpSpPr>
            <p:grpSpPr>
              <a:xfrm>
                <a:off x="1440000" y="5864040"/>
                <a:ext cx="1565280" cy="374760"/>
                <a:chOff x="1440000" y="5864040"/>
                <a:chExt cx="1565280" cy="37476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1459080" y="587700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440000" y="586404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pic>
          <p:nvPicPr>
            <p:cNvPr id="553" name="" descr=""/>
            <p:cNvPicPr/>
            <p:nvPr/>
          </p:nvPicPr>
          <p:blipFill>
            <a:blip r:embed="rId2"/>
            <a:stretch/>
          </p:blipFill>
          <p:spPr>
            <a:xfrm>
              <a:off x="431640" y="1305000"/>
              <a:ext cx="3600720" cy="2413080"/>
            </a:xfrm>
            <a:prstGeom prst="rect">
              <a:avLst/>
            </a:prstGeom>
            <a:ln w="38160">
              <a:solidFill>
                <a:srgbClr val="dfdef6"/>
              </a:solidFill>
              <a:miter/>
            </a:ln>
          </p:spPr>
        </p:pic>
      </p:grpSp>
      <p:sp>
        <p:nvSpPr>
          <p:cNvPr id="554" name=""/>
          <p:cNvSpPr/>
          <p:nvPr/>
        </p:nvSpPr>
        <p:spPr>
          <a:xfrm>
            <a:off x="4284720" y="1268280"/>
            <a:ext cx="4572000" cy="49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 수지액의 분비시기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5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~ 11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시기는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부터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9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방법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수간에 칼로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V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나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형으로 상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관에서 황색의 액이 배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처음에는 유백색의 액이 나오나 공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 중에서 서서히 수분을 잃고 황색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* 1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회 채취량이 약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2mg/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㎠으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아주 미량이다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6" name=""/>
          <p:cNvSpPr/>
          <p:nvPr/>
        </p:nvSpPr>
        <p:spPr>
          <a:xfrm>
            <a:off x="468360" y="1268280"/>
            <a:ext cx="824544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수지액의 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의 황금성을 나타내는 고광택 도료로서 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고 점도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23 cp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저장안정성이 매우 양호한 천연의 무용제형 투명도료로서 황금색을 띠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광택의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장 초에 상쾌한 향을 내지만 시간경과 후 방향성 물질이 휘발하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는 없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순물로 활칠수지액은 분리 정제를 해야햐며 압착법의 수율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5~3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며 원심분리법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5~8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수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중합성 도료로서 햇볕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정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음지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상태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0~1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소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8" name=""/>
          <p:cNvSpPr/>
          <p:nvPr/>
        </p:nvSpPr>
        <p:spPr>
          <a:xfrm>
            <a:off x="468360" y="1268280"/>
            <a:ext cx="824544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도는 양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부착력은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충격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한열성은 양호하나 광택도는 떨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이 뛰어나고 작업성이 우수하나 내화학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에 큰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금빛의 도료이기에 고품격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가 우수하며 황칠은 금속공예에 금박을 넣은 것 같이 보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공예품의 가치를 향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09:54Z</dcterms:modified>
  <cp:revision>32</cp:revision>
  <dc:subject/>
  <dc:title>천연 캐슈 도료</dc:title>
</cp:coreProperties>
</file>